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7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1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9F0-390D-4D4F-8731-4B42D295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FDD-2F78-4854-9FA3-7601BFE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7AE-1276-48BB-92D9-96104581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A47-B2DC-4947-84AC-4BFB509A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8F2A-04A8-4A6F-8AD4-D604274D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A9F3-4530-4441-98EB-3FBB6B76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E867-8E30-4444-8F4B-51C1F2F9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C6BD-C75B-41CE-A343-F0B088F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92C3-B0D1-48F6-842F-87ECB098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FC87-FA20-4CAB-A779-C29F3721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F785-3BB5-4254-81B2-792F965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7F5-12FD-484C-8F49-AF45E9C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B36-96B9-426F-A971-D22E471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C92C-2A34-46E0-9530-A4B3C1C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421D-4AD0-479C-9AEA-03919A92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C1C1-8C7A-4D52-A2AE-B31DBBDC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BAE-FED9-4B75-9002-CBD88737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D2F-9E85-4F9D-8E24-675146B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2DF-46C8-463E-9931-BC54B68A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15A-FC72-40F8-B7EA-069038F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7EF-81BF-4656-A687-5DEB3243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F34-513E-4F95-A4AD-FA25496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619-1B71-4E4E-823F-A2412CD8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3EB-3D12-4D48-8B98-7CFD69E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BB9-E545-424E-B445-DD6308406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BAD8-F8D6-4BD7-8C34-556DBC8D80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iconbazaar.com/objects/animated/pg15/img01.html" TargetMode="External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handel.mid" descr=""/>
          <p:cNvPicPr/>
          <p:nvPr/>
        </p:nvPicPr>
        <p:blipFill>
          <a:blip r:embed="rId1"/>
          <a:stretch/>
        </p:blipFill>
        <p:spPr>
          <a:xfrm>
            <a:off x="426708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612720" y="304920"/>
            <a:ext cx="802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Age of Reas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or th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The  Enlightenment”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j0234746"/>
          <p:cNvPicPr/>
          <p:nvPr/>
        </p:nvPicPr>
        <p:blipFill>
          <a:blip r:embed="rId2"/>
          <a:stretch/>
        </p:blipFill>
        <p:spPr>
          <a:xfrm>
            <a:off x="3505320" y="3352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990720" y="5562720"/>
            <a:ext cx="77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rebuchet MS"/>
              </a:rPr>
              <a:t>The motto of the Enlightenment was "aude sapere" or dare to think. (Immanual Kan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32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Jan 201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hich idea is central to John Locke’s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wo Treatises of Governmen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A government’s power comes from the consent of the peop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Predestination will determine who will go to heav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Famine, disease, and conflict are natural checks on population grow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The have-nots will rise up and overthrow the government of the hav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August 201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hich statement represents a key idea direc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associated with John Locke’s Two Treatises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Governmen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Freedom of speech should be deni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The king’s power on Earth comes from Go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All people are born with the right to life, liberty, and proper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Individuals acting in their own self-inte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ill achieve economic succe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Montesquieu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689-1755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mired English system that divided power into </a:t>
            </a:r>
            <a:r>
              <a:rPr b="1" lang="en-US" sz="2800" spc="-1" strike="noStrike">
                <a:solidFill>
                  <a:srgbClr val="ffff9e"/>
                </a:solidFill>
                <a:latin typeface="Arial"/>
              </a:rPr>
              <a:t>branch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udi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8" descr="j0162997"/>
          <p:cNvPicPr/>
          <p:nvPr/>
        </p:nvPicPr>
        <p:blipFill>
          <a:blip r:embed="rId1"/>
          <a:stretch/>
        </p:blipFill>
        <p:spPr>
          <a:xfrm>
            <a:off x="5838840" y="3719520"/>
            <a:ext cx="2390760" cy="197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85800" y="60948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voltaire"/>
          <p:cNvPicPr/>
          <p:nvPr/>
        </p:nvPicPr>
        <p:blipFill>
          <a:blip r:embed="rId1"/>
          <a:stretch/>
        </p:blipFill>
        <p:spPr>
          <a:xfrm>
            <a:off x="6248520" y="609480"/>
            <a:ext cx="2057400" cy="2838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Voltair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694-1778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ked Locke’s natural rights – but felt few people capable of governing sel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est government ruled by good k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e"/>
                </a:solidFill>
                <a:latin typeface="Arial"/>
              </a:rPr>
              <a:t>Deist</a:t>
            </a:r>
            <a:r>
              <a:rPr b="0" lang="en-US" sz="2400" spc="-1" strike="noStrike">
                <a:solidFill>
                  <a:srgbClr val="ffff9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– universe had planned order discoverable by reason.  God was divine clockmak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 rot="666000">
            <a:off x="4692240" y="3507840"/>
            <a:ext cx="4343400" cy="1752840"/>
          </a:xfrm>
          <a:prstGeom prst="wedgeRoundRectCallout">
            <a:avLst>
              <a:gd name="adj1" fmla="val -80421"/>
              <a:gd name="adj2" fmla="val -54277"/>
              <a:gd name="adj3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Which governmental system did Voltaire </a:t>
            </a:r>
            <a:r>
              <a:rPr b="1" lang="en-US" sz="2800" spc="-1" strike="noStrike" u="sng">
                <a:solidFill>
                  <a:srgbClr val="220011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 lik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www.posterenvy.com/catalog/ss084thumb%20-%20Voltaire.jpg"/>
          <p:cNvPicPr/>
          <p:nvPr/>
        </p:nvPicPr>
        <p:blipFill>
          <a:blip r:embed="rId1"/>
          <a:stretch/>
        </p:blipFill>
        <p:spPr>
          <a:xfrm>
            <a:off x="1066680" y="404640"/>
            <a:ext cx="3848400" cy="5715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638680" y="838080"/>
            <a:ext cx="2895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He believed that </a:t>
            </a:r>
            <a:r>
              <a:rPr b="0" lang="en-US" sz="2400" spc="-1" strike="noStrike">
                <a:solidFill>
                  <a:srgbClr val="ffff9e"/>
                </a:solidFill>
                <a:latin typeface="Arial"/>
                <a:ea typeface="Arial"/>
              </a:rPr>
              <a:t>freedom of speech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as the best weapon against bad government. He also spoke out against the corruption of the French government, and the intolerance of the Catholic Church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Voltaire was forced to flee Paris and take refuge at Cirey in 1734 after the publication of "Philosophic Letters"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10" descr="http://www.guide2rhonealpes.com/uploads/info/large/210611183935--536842_chateau-de-voltaire-a-ferney.jpg"/>
          <p:cNvPicPr/>
          <p:nvPr/>
        </p:nvPicPr>
        <p:blipFill>
          <a:blip r:embed="rId1"/>
          <a:stretch/>
        </p:blipFill>
        <p:spPr>
          <a:xfrm>
            <a:off x="1143000" y="220968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Rousseau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Swis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712-1778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ok – </a:t>
            </a:r>
            <a:r>
              <a:rPr b="1" i="1" lang="en-US" sz="2800" spc="-1" strike="noStrike">
                <a:solidFill>
                  <a:srgbClr val="ffff9e"/>
                </a:solidFill>
                <a:latin typeface="Arial"/>
              </a:rPr>
              <a:t>The Social Contract</a:t>
            </a:r>
            <a:r>
              <a:rPr b="0" lang="en-US" sz="2800" spc="-1" strike="noStrike">
                <a:solidFill>
                  <a:srgbClr val="ffff9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reed with Hobbes:  man needs government, need to give up some freedom for members of socie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in problem is inequality of weal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al decisions should reflect general wi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657600" y="5486400"/>
            <a:ext cx="4648320" cy="1371600"/>
          </a:xfrm>
          <a:prstGeom prst="cloudCallout">
            <a:avLst>
              <a:gd name="adj1" fmla="val -63592"/>
              <a:gd name="adj2" fmla="val -36111"/>
            </a:avLst>
          </a:prstGeom>
          <a:solidFill>
            <a:srgbClr val="ffcfe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Arial"/>
              </a:rPr>
              <a:t>What political group liked Rousseau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Jean Jacques Rousseau"/>
          <p:cNvPicPr/>
          <p:nvPr/>
        </p:nvPicPr>
        <p:blipFill>
          <a:blip r:embed="rId1"/>
          <a:stretch/>
        </p:blipFill>
        <p:spPr>
          <a:xfrm>
            <a:off x="6477120" y="228600"/>
            <a:ext cx="2419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j0309712"/>
          <p:cNvPicPr/>
          <p:nvPr/>
        </p:nvPicPr>
        <p:blipFill>
          <a:blip r:embed="rId1"/>
          <a:stretch/>
        </p:blipFill>
        <p:spPr>
          <a:xfrm>
            <a:off x="6781680" y="1981080"/>
            <a:ext cx="101916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Adam Smith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723-1790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onomist Wrote – </a:t>
            </a:r>
            <a:r>
              <a:rPr b="1" i="1" lang="en-US" sz="2800" spc="-1" strike="noStrike">
                <a:solidFill>
                  <a:srgbClr val="ffff9e"/>
                </a:solidFill>
                <a:latin typeface="Arial"/>
              </a:rPr>
              <a:t>Wealth of Nations</a:t>
            </a:r>
            <a:r>
              <a:rPr b="0" lang="en-US" sz="2800" spc="-1" strike="noStrike">
                <a:solidFill>
                  <a:srgbClr val="ffff9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lieved for economic progress the government should impos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fewest possible restriction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286000" y="4343400"/>
            <a:ext cx="5334120" cy="2286000"/>
          </a:xfrm>
          <a:prstGeom prst="pentagon">
            <a:avLst/>
          </a:pr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Laissez-fai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leave them alone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5943600" y="457200"/>
            <a:ext cx="2971800" cy="3886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ich economic system likes this </a:t>
            </a:r>
            <a:r>
              <a:rPr b="0" lang="en-US" sz="2400" spc="-1" strike="noStrike">
                <a:solidFill>
                  <a:srgbClr val="ffff9e"/>
                </a:solidFill>
                <a:latin typeface="Arial"/>
              </a:rPr>
              <a:t>laissez-faire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pproach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228600" y="838080"/>
            <a:ext cx="3124080" cy="3733920"/>
          </a:xfrm>
          <a:prstGeom prst="wedgeEllipseCallout">
            <a:avLst>
              <a:gd name="adj1" fmla="val 48120"/>
              <a:gd name="adj2" fmla="val 64074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ich economic system is directly opposed to this approach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28600" y="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828800" y="304920"/>
            <a:ext cx="914400" cy="99036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209680" y="5105520"/>
            <a:ext cx="914400" cy="99036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ary Wollstonecraf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Englan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rote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Vindication of the Rights of Women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attacked the educational restrictions that kept women in a state of "ignorance and slavish dependence." - described marriage as "legal prostitution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dvocated women’s suffr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wollstonecraft"/>
          <p:cNvPicPr/>
          <p:nvPr/>
        </p:nvPicPr>
        <p:blipFill>
          <a:blip r:embed="rId1"/>
          <a:stretch/>
        </p:blipFill>
        <p:spPr>
          <a:xfrm>
            <a:off x="5486400" y="2057400"/>
            <a:ext cx="33526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June 201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Which step did Catherine the Great take that is consistent with Enlightenment id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1) ordering the burning of boo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2) strengthening the institution of serfd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3) expanding Russian territory into Ukra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4) considering a law code that would treat all citizens equa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oiree"/>
          <p:cNvPicPr/>
          <p:nvPr/>
        </p:nvPicPr>
        <p:blipFill>
          <a:blip r:embed="rId1"/>
          <a:stretch/>
        </p:blipFill>
        <p:spPr>
          <a:xfrm>
            <a:off x="1828800" y="1905120"/>
            <a:ext cx="5330880" cy="34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27160" y="65088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hilosophers came together at salons to discuss rights – some of the famous salons led by wo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95280" y="556272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Based on picture what was the general economic status of these individual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4" descr="http://upload.wikimedia.org/wikipedia/commons/c/cb/Salon_de_Madame_Geoffrin.jpg"/>
          <p:cNvPicPr/>
          <p:nvPr/>
        </p:nvPicPr>
        <p:blipFill>
          <a:blip r:embed="rId2"/>
          <a:stretch/>
        </p:blipFill>
        <p:spPr>
          <a:xfrm>
            <a:off x="1636560" y="1743120"/>
            <a:ext cx="5715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 of the Enlighten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s in Government – Glorious Revolution – 1688, American Revolution - 1776, French Revolution – 1789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lls of Rights Created – English Bill of Rights – 1688, American Bill of Rights – 1791, Declaration of Rights of Man  - 178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lition of Slavery – 1860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ffrage Movements (right to vote) – 1800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Regents Jan 201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hy is the Enlightenment considered a turning point in world his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The factory system was used to mass-produ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good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Martin Luther broke away from the Rom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atholic Chur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Europeans changed their thinking about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ole of govern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The Columbian exchange occurr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Regent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During the Renaissance, humanist philosoph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mphasized the importanc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individualis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absolut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religious salv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technological advanc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6" descr="Thomas Hobbes"/>
          <p:cNvPicPr/>
          <p:nvPr/>
        </p:nvPicPr>
        <p:blipFill>
          <a:blip r:embed="rId1"/>
          <a:stretch/>
        </p:blipFill>
        <p:spPr>
          <a:xfrm>
            <a:off x="0" y="457200"/>
            <a:ext cx="530388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15" name="Picture 5" descr="pounce"/>
          <p:cNvPicPr/>
          <p:nvPr/>
        </p:nvPicPr>
        <p:blipFill>
          <a:blip r:embed="rId2"/>
          <a:stretch/>
        </p:blipFill>
        <p:spPr>
          <a:xfrm>
            <a:off x="-1295280" y="237960"/>
            <a:ext cx="6619680" cy="6620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5410080" y="2895480"/>
            <a:ext cx="344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ople lead dangerous lives – they need </a:t>
            </a:r>
            <a:r>
              <a:rPr b="0" lang="en-US" sz="3200" spc="-1" strike="noStrike">
                <a:solidFill>
                  <a:srgbClr val="ffff9e"/>
                </a:solidFill>
                <a:latin typeface="Arial"/>
              </a:rPr>
              <a:t>absolute rulers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protect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568480" y="762120"/>
            <a:ext cx="304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omas Hobb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588-16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7772400" y="160020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Impact"/>
              </a:rPr>
              <a:t>Hobbes (cont.)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ocial Contrac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people naturally give up freedom for secu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solute Monarchy is best government, but power comes from authority of people – </a:t>
            </a:r>
            <a:r>
              <a:rPr b="1" lang="en-US" sz="3200" spc="-1" strike="noStrike">
                <a:solidFill>
                  <a:srgbClr val="ffff9e"/>
                </a:solidFill>
                <a:latin typeface="Arial"/>
              </a:rPr>
              <a:t>not divine right</a:t>
            </a:r>
            <a:r>
              <a:rPr b="0" lang="en-US" sz="3200" spc="-1" strike="noStrike">
                <a:solidFill>
                  <a:srgbClr val="ffff9e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rote </a:t>
            </a:r>
            <a:r>
              <a:rPr b="0" i="1" lang="en-US" sz="3200" spc="-1" strike="noStrike">
                <a:solidFill>
                  <a:srgbClr val="ffff9e"/>
                </a:solidFill>
                <a:latin typeface="Arial"/>
              </a:rPr>
              <a:t>Leviath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562720" y="3505320"/>
            <a:ext cx="3276360" cy="2895480"/>
          </a:xfrm>
          <a:prstGeom prst="wedgeEllipseCallout">
            <a:avLst>
              <a:gd name="adj1" fmla="val -56490"/>
              <a:gd name="adj2" fmla="val -68203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011"/>
                </a:solidFill>
                <a:latin typeface="Arial"/>
              </a:rPr>
              <a:t>Do you agre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9" descr="AG00528_"/>
          <p:cNvPicPr/>
          <p:nvPr/>
        </p:nvPicPr>
        <p:blipFill>
          <a:blip r:embed="rId1"/>
          <a:stretch/>
        </p:blipFill>
        <p:spPr>
          <a:xfrm>
            <a:off x="4572000" y="5362560"/>
            <a:ext cx="12952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John Lock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632-1704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bies born without ideas or personal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ped by their environment (school, family, and government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11" descr="j0219098"/>
          <p:cNvPicPr/>
          <p:nvPr/>
        </p:nvPicPr>
        <p:blipFill>
          <a:blip r:embed="rId1"/>
          <a:stretch/>
        </p:blipFill>
        <p:spPr>
          <a:xfrm>
            <a:off x="7772400" y="3657600"/>
            <a:ext cx="1095480" cy="126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3D animated combination lock padl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724280"/>
            <a:ext cx="1198800" cy="1447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590920" y="4495680"/>
            <a:ext cx="56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e"/>
                </a:solidFill>
                <a:latin typeface="Arial"/>
              </a:rPr>
              <a:t>Natural Rights – life, liberty, and propert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(Government must protect these right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486400" y="5257800"/>
            <a:ext cx="3886200" cy="1600200"/>
          </a:xfrm>
          <a:prstGeom prst="cloudCallout">
            <a:avLst>
              <a:gd name="adj1" fmla="val -67726"/>
              <a:gd name="adj2" fmla="val -41569"/>
            </a:avLst>
          </a:prstGeom>
          <a:solidFill>
            <a:srgbClr val="ffc2f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Arial"/>
              </a:rPr>
              <a:t>Who read Locke and were inspired by him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13" descr="John Locke"/>
          <p:cNvPicPr/>
          <p:nvPr/>
        </p:nvPicPr>
        <p:blipFill>
          <a:blip r:embed="rId4"/>
          <a:srcRect l="0" t="0" r="1727" b="1732"/>
          <a:stretch/>
        </p:blipFill>
        <p:spPr>
          <a:xfrm>
            <a:off x="5905440" y="3049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2209680" y="5867280"/>
            <a:ext cx="2819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ok – Two Trea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685800" y="60948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52280" y="15228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9680" y="417600"/>
            <a:ext cx="8713800" cy="5514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914400" y="5691240"/>
            <a:ext cx="1600200" cy="228600"/>
          </a:xfrm>
          <a:prstGeom prst="rect">
            <a:avLst/>
          </a:prstGeom>
          <a:noFill/>
          <a:ln w="9360">
            <a:solidFill>
              <a:srgbClr val="4d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858000" y="5464080"/>
            <a:ext cx="1600200" cy="228600"/>
          </a:xfrm>
          <a:prstGeom prst="rect">
            <a:avLst/>
          </a:prstGeom>
          <a:noFill/>
          <a:ln w="9360">
            <a:solidFill>
              <a:srgbClr val="4d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5-Point Star 2"/>
          <p:cNvSpPr/>
          <p:nvPr/>
        </p:nvSpPr>
        <p:spPr>
          <a:xfrm>
            <a:off x="8458200" y="5029200"/>
            <a:ext cx="665280" cy="549360"/>
          </a:xfrm>
          <a:custGeom>
            <a:avLst/>
            <a:gdLst/>
            <a:ahLst/>
            <a:rect l="l" t="t" r="r" b="b"/>
            <a:pathLst>
              <a:path w="665328" h="548754">
                <a:moveTo>
                  <a:pt x="1" y="209605"/>
                </a:moveTo>
                <a:lnTo>
                  <a:pt x="254134" y="209606"/>
                </a:lnTo>
                <a:lnTo>
                  <a:pt x="332664" y="0"/>
                </a:lnTo>
                <a:lnTo>
                  <a:pt x="411194" y="209606"/>
                </a:lnTo>
                <a:lnTo>
                  <a:pt x="665327" y="209605"/>
                </a:lnTo>
                <a:lnTo>
                  <a:pt x="459728" y="339147"/>
                </a:lnTo>
                <a:lnTo>
                  <a:pt x="538261" y="548753"/>
                </a:lnTo>
                <a:lnTo>
                  <a:pt x="332664" y="419208"/>
                </a:lnTo>
                <a:lnTo>
                  <a:pt x="127067" y="548753"/>
                </a:lnTo>
                <a:lnTo>
                  <a:pt x="205600" y="339147"/>
                </a:lnTo>
                <a:lnTo>
                  <a:pt x="1" y="209605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Rounded Rectangular Callout 4"/>
          <p:cNvSpPr/>
          <p:nvPr/>
        </p:nvSpPr>
        <p:spPr>
          <a:xfrm>
            <a:off x="6400800" y="228600"/>
            <a:ext cx="2057400" cy="990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anuary 201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August 201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upported refo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Believed in natural rights and religious tole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Viewed themselves as servants of their st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n the 18th century, European leaders that f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se characteristics were best known 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theocratic monarc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enlightened despo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totalitarian dicta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prime min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23:57:59Z</dcterms:created>
  <dc:creator>Anne Jean Lyons</dc:creator>
  <dc:description/>
  <dc:language>en-US</dc:language>
  <cp:lastModifiedBy>Windows User</cp:lastModifiedBy>
  <dcterms:modified xsi:type="dcterms:W3CDTF">2014-05-13T14:02:25Z</dcterms:modified>
  <cp:revision>41</cp:revision>
  <dc:subject/>
  <dc:title>PowerPoint Presentation</dc:title>
</cp:coreProperties>
</file>